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2222-FC3D-4920-8C6F-6E54B908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52A6-B5F7-4062-9F94-0A859F03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0512-DDF7-4520-A7A9-CEEFE726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FE23-BE6C-46C6-82F2-A1A0431F1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9956-77A8-490F-B2C1-BF8B2BF3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1A4D-DD00-4FC9-AD32-7B684B4D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87F7-144A-405F-B033-0F3EF31C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AE74-66E8-46BE-A0B6-ECA9E69C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B818-5BE1-46A9-A5E1-09BC9098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257E-F955-4F85-A906-79164F81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CB92-B2EE-47E5-B011-F1E3E477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534D-5E9C-4E49-9480-859A3A9D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ABB4-BC99-4912-B7DF-F81C0370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A162-EC0C-4225-8BB5-0619AEA1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C8DF-E396-4106-8DCF-FAFE0047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1EBC-318F-46BF-B000-2C2E9151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8855-9A9D-4F2D-8C5C-EBA87FEC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4A16-20EB-41BD-9FBC-FF0C0903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D7A8-D40C-4B04-8AC3-74235122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A62D-257A-42EB-AA45-72D9DE16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991-151E-4CB2-8A63-7020A033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6D00-3C1C-4E99-B488-F1710894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4BB-0D62-44A8-BCA2-D4B397C8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E3FC-1C4F-45D5-AAFB-000B3480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B0B3-BC2C-4367-B48A-DFC7F7BA2334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2BAD3-B67E-4D07-94A8-16B91F3E8B1E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40488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hapter 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876560" y="4368600"/>
            <a:ext cx="4259160" cy="74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Atoms, Elements, and the Periodic 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J Thoms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served that electricity flowed from negative to positive components of a sealed tube and could be bent by a mag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knew that opposites attract and the beam was traveling towards a positive charge, so therefore the beam must be made of negatively charged p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ectrons- subatomic particles with a negative char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o what keeps us from being electrocute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don’t get a shock when you touch everything, so what must also be present in the ato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ositively charged partic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o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rnest Rutherfor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1910, his team shot gold foil with alpha p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itively charged partic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ce all of the alpha particles did not pass through the foil, he predicted that most of the atom was made up of empty sp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utherford’s results provided him with information to name the nucle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ucleus- Positively charged central part of the at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s prot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mes Chadwic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istant to Rutherf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overed the neutron- neutral particle in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nd this data when he noticed that the gold atoms in the foil had released some mass with no char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at unknown mass is what Chadwick called the neutr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odern Atomic Mod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at Figure 8 on pg. 7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model is the accepted atomic model (Bohr’s Mode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ice the negatively charged electron cloud and the positively charged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w Resear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rn science has advanced atomic resear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ons and electrons have whole charges +1 or -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articles in the nucleus are now broken down into even smaller particles called quar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se particles are identified by their spin pattern and have a fractional char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62720" indent="-2124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p, down, strange, charmed, top, and botto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implest Matt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ment- matter made up of only one kind of at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least 115 elements are known and 90 of them occur naturally on Ear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-natural elements are known as synthetic el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ed from nuclear reactions in machines known as particle acceler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rganizing the Elemen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mitri Mendeleev organized the first periodic table in order of each element’s m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table only included 60 known el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dern Periodic Table is organized by atomic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Periodic Tab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Structure and Organization of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60948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Important Vocabulary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609480" y="1981080"/>
            <a:ext cx="34671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w of Conservation of Mat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ec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ucl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u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229280" y="1981080"/>
            <a:ext cx="34668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ic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ot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ss Nu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ic 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n-Me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allo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st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buClr>
                <a:srgbClr val="00cc9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x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mportant Vocabul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t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w of Conservation of Mat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ectr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ucle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t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utr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l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15080" y="2819160"/>
            <a:ext cx="346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ic Numb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oto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ss Numb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omic Ma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n-Me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allo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st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ou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x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an Atom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 atom is the simplest form of ma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 is made of three  major p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Proton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sitive Charge, In the Nucle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Electron –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gative Charge, In the Shells and Orbita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Neutron -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 Charge, In the Nucle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t’s Draw an Ato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Oval 3"/>
          <p:cNvSpPr/>
          <p:nvPr/>
        </p:nvSpPr>
        <p:spPr>
          <a:xfrm>
            <a:off x="3352680" y="2666880"/>
            <a:ext cx="2590920" cy="243864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3581280" y="3200400"/>
            <a:ext cx="609840" cy="609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3581280" y="32004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7"/>
          <p:cNvSpPr/>
          <p:nvPr/>
        </p:nvSpPr>
        <p:spPr>
          <a:xfrm>
            <a:off x="4191120" y="4419720"/>
            <a:ext cx="609480" cy="6094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8"/>
          <p:cNvSpPr/>
          <p:nvPr/>
        </p:nvSpPr>
        <p:spPr>
          <a:xfrm>
            <a:off x="2743200" y="2057400"/>
            <a:ext cx="4038480" cy="3809880"/>
          </a:xfrm>
          <a:prstGeom prst="ellipse">
            <a:avLst/>
          </a:prstGeom>
          <a:noFill/>
          <a:ln w="101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4114800" y="2819520"/>
            <a:ext cx="609480" cy="6094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41148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3657600" y="3886200"/>
            <a:ext cx="609480" cy="6094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13"/>
          <p:cNvSpPr/>
          <p:nvPr/>
        </p:nvSpPr>
        <p:spPr>
          <a:xfrm>
            <a:off x="3352680" y="2057400"/>
            <a:ext cx="609840" cy="609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Oval 14"/>
          <p:cNvSpPr/>
          <p:nvPr/>
        </p:nvSpPr>
        <p:spPr>
          <a:xfrm>
            <a:off x="5410080" y="5334120"/>
            <a:ext cx="609840" cy="609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15"/>
          <p:cNvSpPr/>
          <p:nvPr/>
        </p:nvSpPr>
        <p:spPr>
          <a:xfrm>
            <a:off x="4876920" y="2895480"/>
            <a:ext cx="609480" cy="609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16"/>
          <p:cNvSpPr/>
          <p:nvPr/>
        </p:nvSpPr>
        <p:spPr>
          <a:xfrm>
            <a:off x="4876920" y="28954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19"/>
          <p:cNvSpPr/>
          <p:nvPr/>
        </p:nvSpPr>
        <p:spPr>
          <a:xfrm>
            <a:off x="4952880" y="3886200"/>
            <a:ext cx="609840" cy="6094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20"/>
          <p:cNvSpPr/>
          <p:nvPr/>
        </p:nvSpPr>
        <p:spPr>
          <a:xfrm>
            <a:off x="4343400" y="3581280"/>
            <a:ext cx="609480" cy="60984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21"/>
          <p:cNvSpPr/>
          <p:nvPr/>
        </p:nvSpPr>
        <p:spPr>
          <a:xfrm>
            <a:off x="1752480" y="1523880"/>
            <a:ext cx="6096240" cy="5181840"/>
          </a:xfrm>
          <a:prstGeom prst="ellipse">
            <a:avLst/>
          </a:prstGeom>
          <a:noFill/>
          <a:ln w="101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22"/>
          <p:cNvSpPr/>
          <p:nvPr/>
        </p:nvSpPr>
        <p:spPr>
          <a:xfrm>
            <a:off x="6705720" y="1981080"/>
            <a:ext cx="609480" cy="609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23"/>
          <p:cNvSpPr/>
          <p:nvPr/>
        </p:nvSpPr>
        <p:spPr>
          <a:xfrm>
            <a:off x="350532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24"/>
          <p:cNvSpPr/>
          <p:nvPr/>
        </p:nvSpPr>
        <p:spPr>
          <a:xfrm>
            <a:off x="6858000" y="19810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25"/>
          <p:cNvSpPr/>
          <p:nvPr/>
        </p:nvSpPr>
        <p:spPr>
          <a:xfrm>
            <a:off x="5486400" y="5334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tice a few things about our atom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protons does it hav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neutrons does it hav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electrons does it hav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object in the cent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rings does it hav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electrons are on the outside ri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o protons me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protons is also the atomic number of the atom/e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 Hydrogen, atomic symbol H, has 1 proton since it is element #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many protons does each of these hav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ryllium, Oxygen, Nitrogen, Xenon, Carb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me the element with the number of protons show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4, 27, 5, 3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o Neutrons me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you add the number of neutrons and protons, you get the atomic m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the decimal number underneath the atomic symb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gnesium is element #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many protons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ts atomic mass is 24.3050, which rounds to 24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ow many neutrons does Magnesium hav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o electrons me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lectrons are the negatively charged particles located in the rings around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are exactly the same number of protons as there are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electron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dium – Atomic Number 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licon – Atomic Number 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senic – Atomic Number 3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the thing in the cente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t is the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view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two particles are in the nucleu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at overall charge does the nucleus hav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o the rings me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umber of rings tells you on which row the element is loc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drogen has how many ring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many rings does Helium hav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about Carb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about Iodin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o the outer electrons me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outer ring electrons are called valence elec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tell you to which column or family the element belo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al Note: This only applies to families 1,2 and 13-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many valence electrons does Hydrogen have? Neon? Aluminum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w for Rules on Rings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ing Rul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nner ring, #1, can only have 2 elec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econd ring can have up to 8 elec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hird ring can have up to 18 elec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fourth ring can have up to 32 elec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rings up to ring #7, the last ring, can have up to 32 electr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Y VOCAB: Energy Level – the rings containing electrons are actually called energy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unch La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et into your Science Te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at the materials provided as I give you dire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estion: Will you see all three states of matter in this lab ac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rite your hypothe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form the Experi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753400" cy="64771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4"/>
          <p:cNvSpPr/>
          <p:nvPr/>
        </p:nvSpPr>
        <p:spPr>
          <a:xfrm>
            <a:off x="380880" y="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838080" y="609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6248520" y="685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6781680" y="685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8"/>
          <p:cNvSpPr/>
          <p:nvPr/>
        </p:nvSpPr>
        <p:spPr>
          <a:xfrm>
            <a:off x="7238880" y="685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7696080" y="685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8153280" y="685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>
            <a:off x="8610480" y="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8534520" y="380880"/>
            <a:ext cx="457200" cy="685800"/>
          </a:xfrm>
          <a:prstGeom prst="rect">
            <a:avLst/>
          </a:prstGeom>
          <a:noFill/>
          <a:ln w="82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13"/>
          <p:cNvSpPr/>
          <p:nvPr/>
        </p:nvSpPr>
        <p:spPr>
          <a:xfrm>
            <a:off x="1371600" y="15238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Transition Metals DO NOT Follow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14"/>
          <p:cNvSpPr/>
          <p:nvPr/>
        </p:nvSpPr>
        <p:spPr>
          <a:xfrm>
            <a:off x="0" y="685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16"/>
          <p:cNvSpPr/>
          <p:nvPr/>
        </p:nvSpPr>
        <p:spPr>
          <a:xfrm>
            <a:off x="0" y="19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17"/>
          <p:cNvSpPr/>
          <p:nvPr/>
        </p:nvSpPr>
        <p:spPr>
          <a:xfrm>
            <a:off x="0" y="2514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18"/>
          <p:cNvSpPr/>
          <p:nvPr/>
        </p:nvSpPr>
        <p:spPr>
          <a:xfrm>
            <a:off x="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19"/>
          <p:cNvSpPr/>
          <p:nvPr/>
        </p:nvSpPr>
        <p:spPr>
          <a:xfrm>
            <a:off x="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20"/>
          <p:cNvSpPr/>
          <p:nvPr/>
        </p:nvSpPr>
        <p:spPr>
          <a:xfrm>
            <a:off x="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058320" cy="5486400"/>
          </a:xfrm>
          <a:prstGeom prst="rect">
            <a:avLst/>
          </a:prstGeom>
          <a:ln w="0">
            <a:noFill/>
          </a:ln>
        </p:spPr>
      </p:pic>
      <p:sp>
        <p:nvSpPr>
          <p:cNvPr id="221" name="TextBox 4"/>
          <p:cNvSpPr/>
          <p:nvPr/>
        </p:nvSpPr>
        <p:spPr>
          <a:xfrm>
            <a:off x="1752480" y="22860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Naming the Elemental Fami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TextBox 5" descr=""/>
          <p:cNvPicPr/>
          <p:nvPr/>
        </p:nvPicPr>
        <p:blipFill>
          <a:blip r:embed="rId2"/>
          <a:stretch/>
        </p:blipFill>
        <p:spPr>
          <a:xfrm>
            <a:off x="-19080" y="-6480"/>
            <a:ext cx="641520" cy="1549440"/>
          </a:xfrm>
          <a:prstGeom prst="rect">
            <a:avLst/>
          </a:prstGeom>
          <a:ln w="0">
            <a:noFill/>
          </a:ln>
        </p:spPr>
      </p:pic>
      <p:pic>
        <p:nvPicPr>
          <p:cNvPr id="223" name="TextBox 6" descr=""/>
          <p:cNvPicPr/>
          <p:nvPr/>
        </p:nvPicPr>
        <p:blipFill>
          <a:blip r:embed="rId3"/>
          <a:stretch/>
        </p:blipFill>
        <p:spPr>
          <a:xfrm>
            <a:off x="450720" y="-212760"/>
            <a:ext cx="567000" cy="2333520"/>
          </a:xfrm>
          <a:prstGeom prst="rect">
            <a:avLst/>
          </a:prstGeom>
          <a:ln w="0">
            <a:noFill/>
          </a:ln>
        </p:spPr>
      </p:pic>
      <p:pic>
        <p:nvPicPr>
          <p:cNvPr id="224" name="TextBox 7" descr=""/>
          <p:cNvPicPr/>
          <p:nvPr/>
        </p:nvPicPr>
        <p:blipFill>
          <a:blip r:embed="rId4"/>
          <a:stretch/>
        </p:blipFill>
        <p:spPr>
          <a:xfrm>
            <a:off x="7997760" y="450720"/>
            <a:ext cx="560520" cy="1670040"/>
          </a:xfrm>
          <a:prstGeom prst="rect">
            <a:avLst/>
          </a:prstGeom>
          <a:ln w="0">
            <a:noFill/>
          </a:ln>
        </p:spPr>
      </p:pic>
      <p:pic>
        <p:nvPicPr>
          <p:cNvPr id="225" name="TextBox 8" descr=""/>
          <p:cNvPicPr/>
          <p:nvPr/>
        </p:nvPicPr>
        <p:blipFill>
          <a:blip r:embed="rId5"/>
          <a:stretch/>
        </p:blipFill>
        <p:spPr>
          <a:xfrm>
            <a:off x="8528040" y="-237960"/>
            <a:ext cx="476280" cy="178560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0"/>
          <p:cNvSpPr/>
          <p:nvPr/>
        </p:nvSpPr>
        <p:spPr>
          <a:xfrm flipH="1">
            <a:off x="6170760" y="1982880"/>
            <a:ext cx="288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11"/>
          <p:cNvSpPr/>
          <p:nvPr/>
        </p:nvSpPr>
        <p:spPr>
          <a:xfrm flipH="1">
            <a:off x="6172200" y="2514600"/>
            <a:ext cx="5335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Straight Connector 14"/>
          <p:cNvSpPr/>
          <p:nvPr/>
        </p:nvSpPr>
        <p:spPr>
          <a:xfrm flipH="1">
            <a:off x="6705720" y="2514600"/>
            <a:ext cx="144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Straight Connector 15"/>
          <p:cNvSpPr/>
          <p:nvPr/>
        </p:nvSpPr>
        <p:spPr>
          <a:xfrm flipH="1">
            <a:off x="7162920" y="3048120"/>
            <a:ext cx="1440" cy="6094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Straight Connector 16"/>
          <p:cNvSpPr/>
          <p:nvPr/>
        </p:nvSpPr>
        <p:spPr>
          <a:xfrm flipH="1">
            <a:off x="7620120" y="3657600"/>
            <a:ext cx="144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Straight Connector 17"/>
          <p:cNvSpPr/>
          <p:nvPr/>
        </p:nvSpPr>
        <p:spPr>
          <a:xfrm flipH="1">
            <a:off x="8077320" y="4191120"/>
            <a:ext cx="144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traight Connector 18"/>
          <p:cNvSpPr/>
          <p:nvPr/>
        </p:nvSpPr>
        <p:spPr>
          <a:xfrm flipH="1">
            <a:off x="6629400" y="3048120"/>
            <a:ext cx="53352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Straight Connector 20"/>
          <p:cNvSpPr/>
          <p:nvPr/>
        </p:nvSpPr>
        <p:spPr>
          <a:xfrm flipH="1">
            <a:off x="7162560" y="3657600"/>
            <a:ext cx="53316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traight Connector 21"/>
          <p:cNvSpPr/>
          <p:nvPr/>
        </p:nvSpPr>
        <p:spPr>
          <a:xfrm flipH="1">
            <a:off x="7619760" y="4191120"/>
            <a:ext cx="53316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2"/>
          <p:cNvSpPr/>
          <p:nvPr/>
        </p:nvSpPr>
        <p:spPr>
          <a:xfrm>
            <a:off x="6172200" y="1981080"/>
            <a:ext cx="457200" cy="53352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23"/>
          <p:cNvSpPr/>
          <p:nvPr/>
        </p:nvSpPr>
        <p:spPr>
          <a:xfrm>
            <a:off x="6629400" y="2514600"/>
            <a:ext cx="457200" cy="53352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24"/>
          <p:cNvSpPr/>
          <p:nvPr/>
        </p:nvSpPr>
        <p:spPr>
          <a:xfrm>
            <a:off x="6629400" y="3048120"/>
            <a:ext cx="533520" cy="60948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25"/>
          <p:cNvSpPr/>
          <p:nvPr/>
        </p:nvSpPr>
        <p:spPr>
          <a:xfrm>
            <a:off x="7162920" y="3048120"/>
            <a:ext cx="457200" cy="60948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26"/>
          <p:cNvSpPr/>
          <p:nvPr/>
        </p:nvSpPr>
        <p:spPr>
          <a:xfrm>
            <a:off x="7162920" y="3657600"/>
            <a:ext cx="457200" cy="53352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27"/>
          <p:cNvSpPr/>
          <p:nvPr/>
        </p:nvSpPr>
        <p:spPr>
          <a:xfrm>
            <a:off x="7620120" y="3657600"/>
            <a:ext cx="457200" cy="53352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28"/>
          <p:cNvSpPr/>
          <p:nvPr/>
        </p:nvSpPr>
        <p:spPr>
          <a:xfrm>
            <a:off x="7620120" y="4191120"/>
            <a:ext cx="457200" cy="53316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29"/>
          <p:cNvSpPr/>
          <p:nvPr/>
        </p:nvSpPr>
        <p:spPr>
          <a:xfrm>
            <a:off x="8077320" y="4191120"/>
            <a:ext cx="457200" cy="533160"/>
          </a:xfrm>
          <a:prstGeom prst="rect">
            <a:avLst/>
          </a:prstGeom>
          <a:solidFill>
            <a:srgbClr val="ff0000">
              <a:alpha val="45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30"/>
          <p:cNvSpPr/>
          <p:nvPr/>
        </p:nvSpPr>
        <p:spPr>
          <a:xfrm>
            <a:off x="1447920" y="2590920"/>
            <a:ext cx="4647960" cy="459720"/>
          </a:xfrm>
          <a:prstGeom prst="rect">
            <a:avLst/>
          </a:prstGeom>
          <a:noFill/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Arial"/>
              </a:rPr>
              <a:t>Transition Me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31"/>
          <p:cNvSpPr/>
          <p:nvPr/>
        </p:nvSpPr>
        <p:spPr>
          <a:xfrm>
            <a:off x="6629400" y="1981080"/>
            <a:ext cx="2362320" cy="533520"/>
          </a:xfrm>
          <a:prstGeom prst="rect">
            <a:avLst/>
          </a:prstGeom>
          <a:solidFill>
            <a:srgbClr val="00b0f0">
              <a:alpha val="40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36"/>
          <p:cNvSpPr/>
          <p:nvPr/>
        </p:nvSpPr>
        <p:spPr>
          <a:xfrm>
            <a:off x="8534520" y="1371600"/>
            <a:ext cx="457200" cy="609480"/>
          </a:xfrm>
          <a:prstGeom prst="rect">
            <a:avLst/>
          </a:prstGeom>
          <a:solidFill>
            <a:srgbClr val="00b0f0">
              <a:alpha val="40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38"/>
          <p:cNvSpPr/>
          <p:nvPr/>
        </p:nvSpPr>
        <p:spPr>
          <a:xfrm>
            <a:off x="7086600" y="2514600"/>
            <a:ext cx="1905120" cy="533520"/>
          </a:xfrm>
          <a:prstGeom prst="rect">
            <a:avLst/>
          </a:prstGeom>
          <a:solidFill>
            <a:srgbClr val="00b0f0">
              <a:alpha val="40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42"/>
          <p:cNvSpPr/>
          <p:nvPr/>
        </p:nvSpPr>
        <p:spPr>
          <a:xfrm>
            <a:off x="7620120" y="3048120"/>
            <a:ext cx="1371600" cy="609480"/>
          </a:xfrm>
          <a:prstGeom prst="rect">
            <a:avLst/>
          </a:prstGeom>
          <a:solidFill>
            <a:srgbClr val="00b0f0">
              <a:alpha val="40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45"/>
          <p:cNvSpPr/>
          <p:nvPr/>
        </p:nvSpPr>
        <p:spPr>
          <a:xfrm>
            <a:off x="8077320" y="3657600"/>
            <a:ext cx="914400" cy="533520"/>
          </a:xfrm>
          <a:prstGeom prst="rect">
            <a:avLst/>
          </a:prstGeom>
          <a:solidFill>
            <a:srgbClr val="00b0f0">
              <a:alpha val="40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48"/>
          <p:cNvSpPr/>
          <p:nvPr/>
        </p:nvSpPr>
        <p:spPr>
          <a:xfrm>
            <a:off x="8534520" y="4191120"/>
            <a:ext cx="457200" cy="533160"/>
          </a:xfrm>
          <a:prstGeom prst="rect">
            <a:avLst/>
          </a:prstGeom>
          <a:solidFill>
            <a:srgbClr val="00b0f0">
              <a:alpha val="40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rganization on the Periodic Tab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ws are called famil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the same number of energy leve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umns are called group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the same number of valence electrons and bond simila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sotop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 you know about isotop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s with the same number of protons, but different numbers of neutr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otopes determined by mass number (the sum of protons and neutrons in the nucle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s number on the periodic table is the average mass of the el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ydrogen Isotop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drogen has three isotop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ti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 proton, 0 neutr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ost abundan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uteri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 proton, 1 neutr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adioactiv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itiu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 proton, 2 neutr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349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adioactiv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Picture 5" descr="isotopes"/>
          <p:cNvPicPr/>
          <p:nvPr/>
        </p:nvPicPr>
        <p:blipFill>
          <a:blip r:embed="rId1"/>
          <a:stretch/>
        </p:blipFill>
        <p:spPr>
          <a:xfrm>
            <a:off x="5319720" y="2957400"/>
            <a:ext cx="265752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lement categori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als- shiny, metallic luster, good conductors of electricity and he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l metals are solid at room temperature except mercury (liqui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n-metals- usually dull in appearance, brittle (can change shape)– be familiar with figure 1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ually poor conductors of electricit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ny are gasses at room tem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talloids- characteristics of metals and nonmetals, found in a stairstep pattern between metals and non-meta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l are solid at room tem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761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talloid Stairste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0" name="Picture 5" descr="periodic%20table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ounds and Mixtu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stance- mixture with the same chemical properties through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ound- substance whose smallest unit is made up of atoms of two or more el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ve properties different than the elements that make up the compou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ound Examp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re some properties of hydrog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re some properties of oxyg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re some properties of the compound made up of 2 hydrogen atoms and 1 oxygen atom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bout 2 hydrogen and 2 oxyg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oun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ve formu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ing the formu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fixes: mono-, di-, tri-, quad-, pent- hex-, hepto-, octo-, nono- deca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ffixes: -ine, -ane, -ite, -ate, -o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’s practice a few naming proble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unch Lab Discuss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happened to the paper towe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caused this resul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ater was the liquid state of mat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aper towel was a sol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air in the cup was the g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 is matter because it occupies sp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ame these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dium (Na) + Chlorine (Cl) = Na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gen (H) + Oxygen (O) =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drogen (H) + Chlorine (Cl) = HC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bon (C) + Oxygen (O) =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 Hydrogen (H) + 3 Carbon (C) =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ydrocarbons have special naming techniques- we will discuss these techniques in Chapter 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xtu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two substances (elements or compounds) do not combine to make a new substance when mix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happens when you combine oil and wat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serve the bottle I have prepar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wo kinds of Mixtu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mogeneous- the same througho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s: Teas, Soda, Fruit flavored soft drin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terogeneous- larger components that are visibly different from one anoth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amples: Salads, cookies, mixed nu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Quick Revie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and name the parts of an at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5 things that are matter and five things that are not ma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difference between atomic mass and atomic numb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and describe the Isotopes of Hydro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quick Revie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an isotope and what makes them possibl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ve: An atom of Phosphorous has 15 protons and 15 neutrons, what is the mass numb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ve: The element Tungsten has a mass number of 184, how many neutrons does Tungsten hav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Quick Review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is the difference between homogeneous and heterogeneous mixtur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three types of elements are there and give properties of those element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matte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ok at figure 1 on page 72. What in these pictures is matt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ter is anything that has mass and takes up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some things that are not made up of mat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tom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small particle that makes up most mat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your science journal, draw what you think and atom looks l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one time was believed to be a solid un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w broken into even smaller p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utron, electron, and prot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mocritu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671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eek philosopher, lived from 460BC to 370 B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aimed that each type of matter was made up of specific ato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 example: solid water (ice) is made of different atoms than liquid wat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s ideas were ignored until the early 1800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5" descr="458px-Coypel_Democritus"/>
          <p:cNvPicPr/>
          <p:nvPr/>
        </p:nvPicPr>
        <p:blipFill>
          <a:blip r:embed="rId1"/>
          <a:stretch/>
        </p:blipFill>
        <p:spPr>
          <a:xfrm>
            <a:off x="5950080" y="2362320"/>
            <a:ext cx="232884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voisier’s Contribu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chemist, lived 2000 years after Democrit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w of Conservation of Matter- Matter is neither created nor destroyed. It simply changes 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you burn wood, what happens to the lo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ohn Dalt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d that matter is made up of atoms that are too small to be se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imed that each element was made up of specific atoms that were unique to that e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findings are known as the atomic theory of ma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03:52:25Z</dcterms:created>
  <dc:creator>Adam's Homepage</dc:creator>
  <dc:description/>
  <dc:language>en-US</dc:language>
  <cp:lastModifiedBy>Adam Goosby</cp:lastModifiedBy>
  <dcterms:modified xsi:type="dcterms:W3CDTF">2010-07-07T21:23:45Z</dcterms:modified>
  <cp:revision>7</cp:revision>
  <dc:subject/>
  <dc:title>Chapter 3</dc:title>
</cp:coreProperties>
</file>